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938A-3655-46A5-A1C4-639A7E0E7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find a real life example of cross road interse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01B0-DD5F-48A1-BBE2-F26E49C05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give the formula. You can find the formula on the taks formula 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20D0-C0E5-4C00-908A-3DB927A1A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not understand th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0311-F6B1-4207-B44D-5206ADC40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point is the girl in the middle. Can you draw another real life examp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D3AB-B3BD-4889-B028-05E2435A4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this exampl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B53A-15A3-4A87-B881-8325173B3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210-D8ED-4CAF-8F53-6B1F3A10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74B-C0CF-47D6-8062-8D401AA7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90E-ED94-48A0-A996-8186CAE6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39B-5F60-4E61-993D-A1B655E0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D166-60C2-4CC5-A053-18AAB5CD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0B80-9C10-4045-A874-BC8873C2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6439-7EB4-4387-88C1-C8CE9844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8431-E8DB-4F49-96E3-15EF0384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3F8D-9CAE-43FD-AB15-9BE29483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9956-17DC-418A-B242-F644760E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5E69-4ABA-41EF-8715-1D41A8C7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99C-5BBF-48F8-916E-BD546FE3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21EF-0421-4607-B9E9-DFF38488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8074-45FA-404A-A57D-ABF84D4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4A15-82A4-4DEC-9F39-6C62B781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3F12-8287-40F4-ADD0-2779E6C4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4068-4F3E-4786-B60E-A17F9B16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4CA-C3A9-47B0-9DD6-C8BE58E1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060-9CC7-4EE6-B16E-DB1CA84F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D0B-71A9-484F-8108-87F582DA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F1B-86CB-4E9A-8DF5-30E4E6E8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D62-4B1B-418A-BCE1-2F66E726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302-DC3C-40E0-8124-CFBBA594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D8B-3EAF-4CAC-9E16-0575749C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DD0E-A13F-467C-A9EF-E5DB404791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107B-E67F-4CBB-9F77-E64BC07524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etry Vocabular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ute Ang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n angle that is has less than 90 degree 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exampl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side of the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2112319327_d59e7368df_t.jpg"/>
          <p:cNvPicPr/>
          <p:nvPr/>
        </p:nvPicPr>
        <p:blipFill>
          <a:blip r:embed="rId1"/>
          <a:stretch/>
        </p:blipFill>
        <p:spPr>
          <a:xfrm>
            <a:off x="4648320" y="2743200"/>
            <a:ext cx="406404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tuse Ang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n angle greater than 90 degrees and less than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3435446236_3b5c019afe_t.jpg"/>
          <p:cNvPicPr/>
          <p:nvPr/>
        </p:nvPicPr>
        <p:blipFill>
          <a:blip r:embed="rId1"/>
          <a:stretch/>
        </p:blipFill>
        <p:spPr>
          <a:xfrm>
            <a:off x="3936960" y="2952720"/>
            <a:ext cx="4826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Is an angle of 90 degre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455947337_7e6f721aba_t.jpg"/>
          <p:cNvPicPr/>
          <p:nvPr/>
        </p:nvPicPr>
        <p:blipFill>
          <a:blip r:embed="rId1"/>
          <a:stretch/>
        </p:blipFill>
        <p:spPr>
          <a:xfrm>
            <a:off x="4419720" y="2514600"/>
            <a:ext cx="42926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 protractor is a device for measuring the angle between two intersecting lin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rotractor"/>
          <p:cNvPicPr/>
          <p:nvPr/>
        </p:nvPicPr>
        <p:blipFill>
          <a:blip r:embed="rId1"/>
          <a:stretch/>
        </p:blipFill>
        <p:spPr>
          <a:xfrm>
            <a:off x="5715000" y="2209680"/>
            <a:ext cx="28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Where two lines cross and meet at a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ntersection"/>
          <p:cNvPicPr/>
          <p:nvPr/>
        </p:nvPicPr>
        <p:blipFill>
          <a:blip r:embed="rId1"/>
          <a:stretch/>
        </p:blipFill>
        <p:spPr>
          <a:xfrm>
            <a:off x="5562720" y="1676520"/>
            <a:ext cx="306216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ythagorean Theor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theorem that the sum of the squares of the lengths of the sides of a right triangle is equal to the square of the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2408623800_850bb22fdf_t.jpg"/>
          <p:cNvPicPr/>
          <p:nvPr/>
        </p:nvPicPr>
        <p:blipFill>
          <a:blip r:embed="rId1"/>
          <a:stretch/>
        </p:blipFill>
        <p:spPr>
          <a:xfrm>
            <a:off x="5943600" y="3276720"/>
            <a:ext cx="2077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Lines that do not touch across from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parallel"/>
          <p:cNvPicPr/>
          <p:nvPr/>
        </p:nvPicPr>
        <p:blipFill>
          <a:blip r:embed="rId1"/>
          <a:stretch/>
        </p:blipFill>
        <p:spPr>
          <a:xfrm>
            <a:off x="4419720" y="1752480"/>
            <a:ext cx="4724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Is a flat surface has length and width that can be extended, but has no thic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3857530629_52fc1cb0fa_t.jpg"/>
          <p:cNvPicPr/>
          <p:nvPr/>
        </p:nvPicPr>
        <p:blipFill>
          <a:blip r:embed="rId1"/>
          <a:stretch/>
        </p:blipFill>
        <p:spPr>
          <a:xfrm>
            <a:off x="3936960" y="3003480"/>
            <a:ext cx="416088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ollection of points, part of            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 line, no length, has one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nd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302557834_0b06419b37_t.jpg"/>
          <p:cNvPicPr/>
          <p:nvPr/>
        </p:nvPicPr>
        <p:blipFill>
          <a:blip r:embed="rId1"/>
          <a:stretch/>
        </p:blipFill>
        <p:spPr>
          <a:xfrm>
            <a:off x="533520" y="1828800"/>
            <a:ext cx="23875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ke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Lines that do not intersect are not parall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examples are the dots on the man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ontent Placeholder 7" descr="2360203739_499e66d051_t.jpg"/>
          <p:cNvPicPr/>
          <p:nvPr/>
        </p:nvPicPr>
        <p:blipFill>
          <a:blip r:embed="rId1"/>
          <a:stretch/>
        </p:blipFill>
        <p:spPr>
          <a:xfrm>
            <a:off x="4800600" y="2666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llection of points, no length, no endpoints, can be named using smal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example is the line of marching band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9" descr="3476003863_21564768be_t.jpg"/>
          <p:cNvPicPr/>
          <p:nvPr/>
        </p:nvPicPr>
        <p:blipFill>
          <a:blip r:embed="rId1"/>
          <a:stretch/>
        </p:blipFill>
        <p:spPr>
          <a:xfrm>
            <a:off x="5105520" y="2286000"/>
            <a:ext cx="3306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oints on the sam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examples are the lights all in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5" descr="59880929_0ffe721ad0_t.jpg"/>
          <p:cNvPicPr/>
          <p:nvPr/>
        </p:nvPicPr>
        <p:blipFill>
          <a:blip r:embed="rId1"/>
          <a:stretch/>
        </p:blipFill>
        <p:spPr>
          <a:xfrm>
            <a:off x="4952880" y="2514600"/>
            <a:ext cx="37972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Represented by a dot, shows location has no size, has no endpoint, names using big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images.jpg"/>
          <p:cNvPicPr/>
          <p:nvPr/>
        </p:nvPicPr>
        <p:blipFill>
          <a:blip r:embed="rId1"/>
          <a:stretch/>
        </p:blipFill>
        <p:spPr>
          <a:xfrm>
            <a:off x="4952880" y="2819520"/>
            <a:ext cx="30434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dpoi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 point that divides the segment into two congruent se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example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girl on the end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2959673193_323d31f2cb_t.jpg"/>
          <p:cNvPicPr/>
          <p:nvPr/>
        </p:nvPicPr>
        <p:blipFill>
          <a:blip r:embed="rId1"/>
          <a:stretch/>
        </p:blipFill>
        <p:spPr>
          <a:xfrm>
            <a:off x="4572000" y="2743200"/>
            <a:ext cx="4057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grue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ll same shape, same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ongruent"/>
          <p:cNvPicPr/>
          <p:nvPr/>
        </p:nvPicPr>
        <p:blipFill>
          <a:blip r:embed="rId1"/>
          <a:stretch/>
        </p:blipFill>
        <p:spPr>
          <a:xfrm>
            <a:off x="2895480" y="3124080"/>
            <a:ext cx="56102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0:49:07Z</dcterms:created>
  <dc:creator>administrator</dc:creator>
  <dc:description/>
  <dc:language>en-US</dc:language>
  <cp:lastModifiedBy>Goddess</cp:lastModifiedBy>
  <dcterms:modified xsi:type="dcterms:W3CDTF">2010-09-07T01:23:03Z</dcterms:modified>
  <cp:revision>23</cp:revision>
  <dc:subject/>
  <dc:title>Geometry Vocabulary Project</dc:title>
</cp:coreProperties>
</file>